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F3C-04B2-48E8-A057-963FAC81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C1C-E4C0-42EA-8A36-209E6FFC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7BB-D706-4929-90C2-E218671B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B11-905A-4818-9E16-187D1419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26E6-3147-49D4-908F-7D550A78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515-B52F-4EDA-B484-99CB9D26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DD9-581A-421F-ADF3-BCDE30A0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621-8AF0-4755-AE70-E192D379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494-E5B4-45E6-BC13-E2C51025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1FF-BE5A-4C4E-BF96-3D3B7CB0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48F1-4ED4-4CCE-A7AE-B6D129B4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A00-E035-4BC9-96BF-5614B74F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B2A2-F7EF-4A80-B8D1-5A31507BE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rainpop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pter 15  Outlin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Teaching and Learning with Technology in Special Edu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macdonmi\Local Settings\Temporary Internet Files\Content.IE5\QS937PBQ\MP900437333[1].jpg"/>
          <p:cNvPicPr/>
          <p:nvPr/>
        </p:nvPicPr>
        <p:blipFill>
          <a:blip r:embed="rId1"/>
          <a:stretch/>
        </p:blipFill>
        <p:spPr>
          <a:xfrm>
            <a:off x="7467480" y="1066680"/>
            <a:ext cx="13845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mary 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For most of us, technology makes things easier. For a person with a disability, it makes things possible.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p. 396 Chapter 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 Articulate a rationale for including technology in curriculum for special education that is based on goals of meeting individual needs of each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 Recognize the implications for technology integration of each current issue faced teachers of students with special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 Create Key strategies for integrating technology into special education curricu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 Analyze given scenarios to identify examples of tech-PACK needs and challenges that are specific to teachers of students with special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ssues and Problems in Special Educ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gal and Policy Dir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 Child Left Behind Act for Special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t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Sig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ed for Trained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lusive Classro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b Acces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5.1 P. 405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of Technology Integration Strategies for Special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ample Resour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 Risk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e BrainP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rainpop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-PACK Need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al Education – Content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al Education - Pedagogical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al Education – Technological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. 412-4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rap Up Chapter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e page 410 for TOP TEN Strategies List for Special Education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rt Chapter – direct in topic information pres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y resources given for web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C:\Users\Mike\AppData\Local\Microsoft\Windows\Temporary Internet Files\Content.IE5\0WT08MVW\MC900104682[1].wmf"/>
          <p:cNvPicPr/>
          <p:nvPr/>
        </p:nvPicPr>
        <p:blipFill>
          <a:blip r:embed="rId1"/>
          <a:stretch/>
        </p:blipFill>
        <p:spPr>
          <a:xfrm>
            <a:off x="4114800" y="4876920"/>
            <a:ext cx="907920" cy="90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Mike\AppData\Local\Microsoft\Windows\Temporary Internet Files\Content.IE5\JZBTO7O4\MC900104674[1].wmf"/>
          <p:cNvPicPr/>
          <p:nvPr/>
        </p:nvPicPr>
        <p:blipFill>
          <a:blip r:embed="rId2"/>
          <a:stretch/>
        </p:blipFill>
        <p:spPr>
          <a:xfrm>
            <a:off x="5029200" y="4876920"/>
            <a:ext cx="90792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5:44:53Z</dcterms:created>
  <dc:creator>Province of NS</dc:creator>
  <dc:description/>
  <dc:language>en-US</dc:language>
  <cp:lastModifiedBy>Mike</cp:lastModifiedBy>
  <dcterms:modified xsi:type="dcterms:W3CDTF">2012-07-15T14:04:55Z</dcterms:modified>
  <cp:revision>28</cp:revision>
  <dc:subject/>
  <dc:title>Slide 1</dc:title>
</cp:coreProperties>
</file>